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989-A955-4558-BECE-5D07BF15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4AD-FB3A-4E92-BC3F-822F3B8D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00F1C-144E-423F-BC01-C7081B1B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22AF-0CBB-4B80-A7CF-E46D5725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79E7F-7774-4C5E-8F32-5C413CF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9FC78-EAA4-48AE-99E5-4CA6C5F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C4B75-B9A2-48C6-983D-E4355AE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34BB8-23BE-43DC-BC5C-A7CE6EE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918C7-4A2C-4E07-A489-8B7BB04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CCDEC-9581-49DC-9E69-42DDDBEA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91730-FAA3-4791-B95A-4AD7B596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03066-838C-4D84-BE54-8E02F25F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4FE-F5C4-4DE9-9080-D617D7F5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18AA2-0752-424D-AB4D-0E424F04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80AAC-7EB8-42DB-8193-2356FBC6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1BB09-554F-4A37-B647-E8D033FE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8EC8B-85F7-476F-B145-73EF52A9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5C5DA-11A3-47CD-8DF6-850E3AD2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CA43D-F159-4EE0-A950-73BDEFE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2DD67-2237-4BE0-B71D-600705F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93FA7-E0A3-45F3-A64E-96311A9F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B233D-BC5F-4BE1-AC9A-B048C7CC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B34FE-D2C6-494A-90DC-91A16798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C1F-D061-4666-B1FA-E605F578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2DE54-7BBA-4B91-A8B8-24CFCFDD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96764-FB91-4A75-922C-A46D98D4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5CAC7-E49F-4B6D-9C85-4CA58C8F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BB485-ECB6-4B92-A04C-451A115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9D40-650D-487B-8EF2-4252DBE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88C84-8EC0-4021-A96A-2AD91174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99348-42F3-4936-A2B4-0F75F038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4068A-611F-40F7-9B48-6FFA6EE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8CC9C-8C65-4E6F-A276-03F7777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15318-394E-4078-8E2F-52D025C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6C6F-EC13-4A6C-A1C7-254ED301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CF5A3-2C5C-4F30-9ED4-40E2DAA7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61FA6-DF25-474A-8B08-982A5756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39B3-5D96-4CA9-BA74-EA85C575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B123D-BE79-4D0E-8B71-49E6643F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D1907-3A99-4A4E-8085-01B0629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D8C6B-9FDE-42D2-B0FF-129DD6A7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6E0D8-FF07-4B10-8DFD-E4B9E4EA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7DDBD-1705-48C7-9567-3E69C10C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E7249-72C9-45DD-AEA9-CCCFE15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43503-0E6D-47C7-847A-DAFEB946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2EA3-A11B-467D-B766-0C097A48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77148-43B9-4142-9196-54B9730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627C3-4FC2-4F76-A397-50DE98E7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170AE-9629-43A8-B45A-3CD5E9F8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51786-BFCC-4B1F-A871-3B71C208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E7A89-0ED6-4D23-8AC9-1951754E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98E8B-3715-4DAE-852C-E545D143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18E9E-12B6-4A76-9995-71005DD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B1C4B-AEF4-475B-AA05-6ED6A0C1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BA09A-B8DF-452A-B5B4-51DEA2F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FF900-FA02-48B4-9270-B9DF81CA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B40-8B48-438D-A023-415A54DC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5CADD-FE36-49E7-AF7A-B5469F3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07FA3-C0FB-46DE-B63D-7849B4A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7FE07-207F-45E8-8CC1-7848035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FC016-05B2-4EEC-BACD-3C3550D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5D5A8-EDB2-4083-8C50-73A9818B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AFB50-F732-48BB-BFE4-90E86294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9D469-53A6-4C53-950A-3FBC7945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70E02-190A-4951-BA4D-02617CAA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62446-369D-412A-8405-23027C4C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9954A-8843-46D0-A0B2-B67C5000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BC4F-7915-4ED1-BC27-3935B784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6084A-89F6-4B61-AD9F-9D7DAC37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5458F-6E0F-413A-853B-B6F6161C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198E1-1DC3-4EE4-A4B7-0FC5D19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C15F0-4AA2-4D08-81FC-5526536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85F3E-055D-4F76-8EE6-08C3ABB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2068B-7F0B-4091-B682-A238FCB4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3EE25-F8EE-4B2E-9BC4-1FFE5F58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E605B-9508-4B5A-9908-F10C61AB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AC2B2-007D-4B61-8EBF-3747FDA5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3F250-AB8F-43CA-AD33-E4A13D0A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FFA6-1495-4FEB-9CA4-101EE603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8037A-E70E-4BAD-8488-C9903083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A30B2-B653-4BCE-9F1B-7893E059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DB06D-76E6-4ACB-A29C-175A40EF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5F37F-999A-4933-939A-C9091DD9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24598-BF40-44CC-B5CF-2528B861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1220F-CACE-480E-BB5A-18C935BD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C2374-478E-4718-915E-9B144161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3A248-EF08-4DAC-8DA5-87F3AD6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3AC87-4F9D-4F6D-BFA7-2C097D7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4A732-A8C9-4275-A801-DB7166F0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0F73-BA57-49E2-8DBC-E1E5F905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E81DA-7B90-4A0E-9B18-A558CF87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4504B-07D7-4388-93DE-38C9DE1A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EEE3C-694E-42F1-8E3E-4E5F9B1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05EFA-C230-4186-9CFC-9788160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5806F-1A44-4381-B59D-33FED7DA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3BE4D-F0D0-40D2-AB9C-2A489CE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483E2-2C01-4860-88D1-23147A8B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93815-19AE-4640-9990-E1C2C250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5DB80-8320-4214-AB93-D5B44874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561EE-3625-427D-9522-04EF88C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F0C7-3BCF-4DF4-9C3D-DE48953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266EE-B764-46C2-B104-CEE14D0C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9F7BE-D1D4-4B8F-B879-A3F60400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9EFC1-CC4D-4741-B40D-8C75ECFE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6AB9F-7D5C-41FF-8F72-E2793DD9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E2FF4-3BF8-4FBC-B901-115FFE6D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A9276-0687-4B19-AE1A-58D6FA9F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23BC7-486F-4356-A576-A0C3E4DC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1C330-A55F-43D7-8F01-34F4797C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9CCD6-CC89-4917-888A-E8844C7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F45E0-EADC-4B62-B068-09BE74C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855-CAA1-4550-8388-67EFD38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4BE9-CC92-49F1-B247-049E96EF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7D1CB-57AC-42C4-9CE7-97E4A647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B70D4-11B4-4759-B888-B6308A7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ED38B-E897-45FA-9BCF-50E25AAA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E91DD-66F1-4912-90A6-D43FC1E3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183D0-120B-4A19-8C42-7EB9E23E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A42A2-87FD-44CF-80E0-376721FE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81E07-2565-4496-B492-DAF36C57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278F0-6138-4F94-B6EF-2B5790E2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8F7F0-1F23-418A-8FC2-02920B6F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6A440-08AF-49EB-8B42-916031C2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931E-E2B5-43B5-9B41-52C96A10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4EE05-2801-4F2E-8843-AE3B1A72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672D3-C746-4D27-B290-C21AE58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E2BA8-3B6A-4B2A-9CA7-C966A6E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4E457-BA48-4BB1-BEE3-3B601705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DB14A-9F3F-452C-8F4F-A002BF8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B5FA4-3901-4848-BF4E-9AFD3732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53228-7955-4BC1-9217-ABE1899E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AE7230-0AD4-4B68-8855-0B2719D2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327E7D-5241-4F03-BEC7-59ABE07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66B31-4E32-4CE3-8E2E-A9BB90BE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4AD-EF93-4DB9-9C39-578EE117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22DAB-9D5E-480F-ACC2-A0E8AB28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ABDE6-326C-4A54-BBE5-27C915E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E4D1CD-574E-4C74-AD86-9B7700F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0B071-AFD1-407C-B0CA-33AE1C90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B57F4-577E-4197-B0EA-3C5B3DA9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15EA1-4E2E-41A5-83AD-7E5DA19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29218E-20BF-492E-A8E8-CCDE8A12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837CD7-9EA6-4290-9CEB-C53FAF9F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F37DD-D62C-4A3B-9B78-A3958760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66B11-E7E8-4D7F-9F3F-CBBE7FDF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907-B156-40BB-B3E7-1EB5262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7158D-BCFF-4652-8E76-8E44996B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EB604-A9EB-4913-A4A1-62362A5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AB0B4-41F1-4442-8893-76234295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370B3-7AEE-454C-A517-F6A9CC3E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32914-E2E1-4211-AE87-20B4DF5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51604-9987-4A98-9A17-2F286EA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37320-30AC-4F81-BE38-68452D93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E17E7-89EB-4D44-B8C5-8A75DF6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0959C-D46D-4CDD-AC7C-ED48679F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1E44C-7554-4718-BA14-151A3139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4702-FDAE-4F38-B7A0-0F0A4FF8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EA4EA-6FFC-430E-B52D-A5C4AEFF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0F5BD-92B0-497B-9541-5B6C3CB3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A3864-D562-44B9-A37D-9513D979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7AADA-C49B-45AE-BD80-43DE85F9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7D300-2502-4E4C-923F-2A06CEE9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B8F7B8-BF2A-4D2B-A311-E1EC9B9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F9C0CF-9335-4D4C-BA8D-A8DEBC9F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DF0F2-35CA-4B6B-99FE-A5B1949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9B30B1-227E-4652-948C-5BB571B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05E86-ECFB-4BD4-B2EF-EAF4B05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F50F-76AE-45E9-8F7C-0634478F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03DD9D-F0C5-49CC-BAFA-9F3D83B3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998F84-AAB2-40A8-A61E-C0B580A0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4C134-457F-4F11-9698-90CA4303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79F9-F7E8-4811-9B3F-9C55C851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CFDE-19C3-4423-9E92-C992FC1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461F-C632-401A-9066-4754BA9E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8519-088F-4D73-BA6E-6E13BBBA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129-7BD2-4D38-87CD-AAB4DA05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C587-DF1B-45F2-91BE-64B22A00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CD06-C89D-4006-A8B8-456CF8F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C3178-7624-4729-880A-44F9FA7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8472-EE19-4274-83F4-8ECA2D9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4005-5E5C-407C-B76A-2B442E2C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5AB04-779A-4A51-93D1-AC677229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7094-C3FB-4669-BEDD-DCFE3FD2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8703-8DD7-4025-B375-02CF693B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1375-5448-4516-A97A-7F2EEE0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4363-EE12-4510-83CE-3B2E56A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B29-112C-453E-B183-8F962BC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BDCD-0CB1-468F-AB98-3517957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4D5F-7B14-4D6A-B439-F665B39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A5F0-EA79-4F25-A412-50F31162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586E-53D0-4FB7-99B7-20D522B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853E-E9CF-4255-A66D-F276824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BC9A-6FC8-49C6-B4C1-43AE8C8D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0F878-F8D2-41D3-A4FE-FEA4D914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5141-BE12-4D85-8B61-2281A4D5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A73B-5C89-4207-AF2A-E9EB4031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06CB2-19AE-41A2-A364-88A421EB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E74-5C74-4BB9-BCAA-209AB901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927E9-8C97-4055-A475-2AC6A766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E8BB-79EC-466A-80FA-3A7361D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7F9D-623B-4255-9743-BB2E0FF7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EB157-6B1C-400B-AD48-A65FC70E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5F4C-4F0A-4CA4-A262-85BCEFE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1ACA-8709-43C8-BFA8-2D3DF78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9AE95-2DDE-4777-9053-EA90A519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9BC2-46C8-4D1C-B672-B0C1C2C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9747-724F-44D8-A9AA-2B2A7F61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C911-2E4E-47A1-B238-F420E18E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FF5-2236-46E6-A3B8-F971F2CF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EBA0-C6C5-4323-8401-C51F1C74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72F11-A002-4EEA-A960-377472C1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752F3-0EFB-438F-B0AC-911314CB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7E5A-82D7-4294-B81F-17F3F08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8FC2-BBD7-4EC9-A1AB-D48FBC53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1898-EEC7-42B3-9A75-48362D3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134D1-4405-47A5-BEA6-BB022A05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C108D-C7BF-4E36-864B-891BE87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1F30-49CA-4CE4-B5AA-4D9825F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1955-740A-4736-A6FA-22BB3A6B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02B-D39A-4B06-AFDA-C5801E8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C0C67-9868-42A4-AA71-C2C93254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232D-82CE-43B9-BCC5-F563F3B5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4E2F0-7BA2-4946-A608-D2FCF316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AB6F-8D96-4D4D-914C-E8504F44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B908-7007-47D5-AB21-8CD3608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9172-F67C-4516-AC63-BC341CC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1A9E-F443-4C7D-8E08-CEFE3496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7A71B-9C29-4402-9BD4-12E30BC4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85D0E-0B52-48BF-ADF8-B379304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DC47B-90EB-4F73-9968-88BE3DA7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DCE-37B6-4253-926F-DBBF47D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6D69-A45D-43A9-B806-F48D042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FD9F7-4CD0-4AB6-8DE9-3860DEA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F4F71-37A7-4F4C-8036-D5C2EB5F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97358-D299-4851-A56F-2941AA98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F135-BB2C-4CCC-A193-DBE35FE4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61BE8-BBDA-4931-A709-29CE0A8F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2AB14-ADFF-43B3-8D71-A5F43FE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E83C5-1763-483D-BBEF-B94A95DE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EFC3D-620F-4B0B-A495-38D4A1B4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1DD5A-12E9-4C35-BA71-BE986237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68A-791B-4245-BABC-2E30899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89659-BFB3-488A-B20F-84A6CEF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E900A-A0ED-461F-9B12-92854D21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6B02C-A347-41A6-B9B5-C00BE39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7B50E-2CF5-43D1-90DB-98DA1844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81DCB-2657-47FC-989F-0570B135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1AE12-0B8E-49A4-A508-B9026E4E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2488-229C-4174-A2DA-9D814035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B2C25-53F4-448A-8129-9A6549B8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84AC3-890D-4C86-886E-3D4AA123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82C94-D332-42C7-81A4-ED7FFBE9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C6F4-7820-4896-AC1A-098CCF9FE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581-C446-4F07-AC72-3F9FA5395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DA8-C3C3-46A7-9EAA-C8D35257A1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32DD-B058-4E14-9295-E7272D239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ABA-4DFA-4207-A3B4-862298C10F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5CEA-0ACD-476C-885E-59AA78FEC1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21C4-0ECD-4651-A262-36CF66132C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7086-FC8C-41BB-8ED2-793EDA9E1F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023C-DC7F-4EA4-B74D-1DF9AD8462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27C0-7876-4FCA-8EE4-75D01C24F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E23D-341F-427D-AA70-829E86DA19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B6F2-9CF4-47ED-9EF8-703B32014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BA15-14E0-4880-B00C-49B190720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74E6-8725-487C-A0C1-BAB3C2D36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02A3-A3B6-4DBE-887F-323D9812BD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6421-0933-4F20-8005-1A88D80C6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594-FC9C-437D-BCD9-A0DE8F87CB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B4F9-4BA8-4B18-A442-6BC18DFD6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9FB7-4610-4216-9383-F7A8ED2EA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1A8-004C-4C49-85D8-946114E164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BD1D-DFB1-4E6F-995F-475426430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5950-A91A-49FE-965C-35A9A026F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1C72-C080-4B8D-976F-F3E0C37AF3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4A53-97D1-4D4D-86A9-E8F5592922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1838-C959-4777-B6E6-C6788CB16B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BCD0-FE40-4F4A-B794-0066B4C539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5B56-E959-4023-85CE-8F7577FB4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FCE4-6CFA-49BE-B853-F7886DD76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26DB-8A91-4D9B-947E-ED1A74314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C69-19C1-4160-B757-3A3FE5105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C369-BAC9-4A70-B9A1-A695F3459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C241-504E-4F4A-A134-3C908FE8F9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578C-7845-4651-A82C-8D634AB29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86AD-0BE6-4D4A-81D9-A9B2A4A35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DF7F-D056-41E6-A989-90E601111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C988-2569-4FCD-94E5-352EFF6B96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F134-130D-4BAF-903F-9A02C4470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E753-1578-488E-8818-BFDB7C8CD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2F1D-5318-43DE-B280-2E95CFC0D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438-1458-4B97-B241-1551F2DBF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2533680" y="3262320"/>
            <a:ext cx="4076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33200" y="1076400"/>
            <a:ext cx="8877600" cy="4924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1465200" y="2579760"/>
            <a:ext cx="243000" cy="288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1465200" y="3000240"/>
            <a:ext cx="303120" cy="287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4446720" y="261792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4449600" y="2952720"/>
            <a:ext cx="301680" cy="287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7332840" y="2589120"/>
            <a:ext cx="301320" cy="287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7323120" y="2981160"/>
            <a:ext cx="303120" cy="287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1465200" y="4132440"/>
            <a:ext cx="243000" cy="28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1465200" y="455292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4446720" y="4170240"/>
            <a:ext cx="303120" cy="287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4449600" y="4505400"/>
            <a:ext cx="30168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7332840" y="4141800"/>
            <a:ext cx="30132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7323120" y="453384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536400" y="2894040"/>
            <a:ext cx="1500480" cy="68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3294000" y="3255840"/>
            <a:ext cx="1500120" cy="66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500040" y="4454640"/>
            <a:ext cx="1500120" cy="68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3446640" y="4819680"/>
            <a:ext cx="1500120" cy="66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2079720" y="53578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19"/>
          <a:stretch/>
        </p:blipFill>
        <p:spPr>
          <a:xfrm>
            <a:off x="5214960" y="53578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0"/>
          <a:stretch/>
        </p:blipFill>
        <p:spPr>
          <a:xfrm>
            <a:off x="7937640" y="53578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21"/>
          <a:stretch/>
        </p:blipFill>
        <p:spPr>
          <a:xfrm>
            <a:off x="2198520" y="5713560"/>
            <a:ext cx="301680" cy="287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22"/>
          <a:stretch/>
        </p:blipFill>
        <p:spPr>
          <a:xfrm>
            <a:off x="4946760" y="5721480"/>
            <a:ext cx="303120" cy="287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3"/>
          <a:stretch/>
        </p:blipFill>
        <p:spPr>
          <a:xfrm>
            <a:off x="7832880" y="5721480"/>
            <a:ext cx="3013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1" descr=""/>
          <p:cNvPicPr/>
          <p:nvPr/>
        </p:nvPicPr>
        <p:blipFill>
          <a:blip r:embed="rId1"/>
          <a:stretch/>
        </p:blipFill>
        <p:spPr>
          <a:xfrm>
            <a:off x="409680" y="1504800"/>
            <a:ext cx="8324640" cy="4067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286000" cy="18097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3"/>
          <a:stretch/>
        </p:blipFill>
        <p:spPr>
          <a:xfrm>
            <a:off x="4714920" y="157176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4"/>
          <a:stretch/>
        </p:blipFill>
        <p:spPr>
          <a:xfrm>
            <a:off x="2268360" y="4008600"/>
            <a:ext cx="243000" cy="288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5"/>
          <a:stretch/>
        </p:blipFill>
        <p:spPr>
          <a:xfrm>
            <a:off x="3357720" y="417672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6"/>
          <a:stretch/>
        </p:blipFill>
        <p:spPr>
          <a:xfrm>
            <a:off x="4564080" y="4016520"/>
            <a:ext cx="309600" cy="287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4" descr=""/>
          <p:cNvPicPr/>
          <p:nvPr/>
        </p:nvPicPr>
        <p:blipFill>
          <a:blip r:embed="rId7"/>
          <a:stretch/>
        </p:blipFill>
        <p:spPr>
          <a:xfrm>
            <a:off x="5618160" y="4178160"/>
            <a:ext cx="241200" cy="287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"/>
          <p:cNvPicPr/>
          <p:nvPr/>
        </p:nvPicPr>
        <p:blipFill>
          <a:blip r:embed="rId8"/>
          <a:stretch/>
        </p:blipFill>
        <p:spPr>
          <a:xfrm>
            <a:off x="6786720" y="4008600"/>
            <a:ext cx="357120" cy="288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9"/>
          <a:stretch/>
        </p:blipFill>
        <p:spPr>
          <a:xfrm>
            <a:off x="8001000" y="4183200"/>
            <a:ext cx="357120" cy="282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4" descr=""/>
          <p:cNvPicPr/>
          <p:nvPr/>
        </p:nvPicPr>
        <p:blipFill>
          <a:blip r:embed="rId10"/>
          <a:stretch/>
        </p:blipFill>
        <p:spPr>
          <a:xfrm>
            <a:off x="2257560" y="489276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4" descr=""/>
          <p:cNvPicPr/>
          <p:nvPr/>
        </p:nvPicPr>
        <p:blipFill>
          <a:blip r:embed="rId11"/>
          <a:stretch/>
        </p:blipFill>
        <p:spPr>
          <a:xfrm>
            <a:off x="3346560" y="505944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4" descr=""/>
          <p:cNvPicPr/>
          <p:nvPr/>
        </p:nvPicPr>
        <p:blipFill>
          <a:blip r:embed="rId12"/>
          <a:stretch/>
        </p:blipFill>
        <p:spPr>
          <a:xfrm>
            <a:off x="4568760" y="4898880"/>
            <a:ext cx="311040" cy="289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4" descr=""/>
          <p:cNvPicPr/>
          <p:nvPr/>
        </p:nvPicPr>
        <p:blipFill>
          <a:blip r:embed="rId13"/>
          <a:stretch/>
        </p:blipFill>
        <p:spPr>
          <a:xfrm>
            <a:off x="5624640" y="506088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4" descr=""/>
          <p:cNvPicPr/>
          <p:nvPr/>
        </p:nvPicPr>
        <p:blipFill>
          <a:blip r:embed="rId14"/>
          <a:stretch/>
        </p:blipFill>
        <p:spPr>
          <a:xfrm>
            <a:off x="6792840" y="4892760"/>
            <a:ext cx="357120" cy="2872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4" descr=""/>
          <p:cNvPicPr/>
          <p:nvPr/>
        </p:nvPicPr>
        <p:blipFill>
          <a:blip r:embed="rId15"/>
          <a:stretch/>
        </p:blipFill>
        <p:spPr>
          <a:xfrm>
            <a:off x="8007480" y="5067360"/>
            <a:ext cx="357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3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1" descr=""/>
          <p:cNvPicPr/>
          <p:nvPr/>
        </p:nvPicPr>
        <p:blipFill>
          <a:blip r:embed="rId1"/>
          <a:stretch/>
        </p:blipFill>
        <p:spPr>
          <a:xfrm>
            <a:off x="119160" y="880920"/>
            <a:ext cx="8905680" cy="3333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"/>
          <p:cNvPicPr/>
          <p:nvPr/>
        </p:nvPicPr>
        <p:blipFill>
          <a:blip r:embed="rId2"/>
          <a:stretch/>
        </p:blipFill>
        <p:spPr>
          <a:xfrm>
            <a:off x="119160" y="4567320"/>
            <a:ext cx="8905680" cy="1647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4" descr=""/>
          <p:cNvPicPr/>
          <p:nvPr/>
        </p:nvPicPr>
        <p:blipFill>
          <a:blip r:embed="rId3"/>
          <a:stretch/>
        </p:blipFill>
        <p:spPr>
          <a:xfrm>
            <a:off x="428760" y="2014560"/>
            <a:ext cx="2071440" cy="324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214200" y="5000760"/>
            <a:ext cx="20718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" descr=""/>
          <p:cNvPicPr/>
          <p:nvPr/>
        </p:nvPicPr>
        <p:blipFill>
          <a:blip r:embed="rId1"/>
          <a:stretch/>
        </p:blipFill>
        <p:spPr>
          <a:xfrm>
            <a:off x="109440" y="961920"/>
            <a:ext cx="8925120" cy="53247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4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2571480" cy="323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4" descr=""/>
          <p:cNvPicPr/>
          <p:nvPr/>
        </p:nvPicPr>
        <p:blipFill>
          <a:blip r:embed="rId3"/>
          <a:stretch/>
        </p:blipFill>
        <p:spPr>
          <a:xfrm>
            <a:off x="500040" y="3268800"/>
            <a:ext cx="4357800" cy="323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4" descr=""/>
          <p:cNvPicPr/>
          <p:nvPr/>
        </p:nvPicPr>
        <p:blipFill>
          <a:blip r:embed="rId4"/>
          <a:stretch/>
        </p:blipFill>
        <p:spPr>
          <a:xfrm>
            <a:off x="500040" y="3689280"/>
            <a:ext cx="2714760" cy="324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4" descr=""/>
          <p:cNvPicPr/>
          <p:nvPr/>
        </p:nvPicPr>
        <p:blipFill>
          <a:blip r:embed="rId5"/>
          <a:stretch/>
        </p:blipFill>
        <p:spPr>
          <a:xfrm>
            <a:off x="428760" y="4767120"/>
            <a:ext cx="4143240" cy="324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"/>
          <p:cNvPicPr/>
          <p:nvPr/>
        </p:nvPicPr>
        <p:blipFill>
          <a:blip r:embed="rId6"/>
          <a:stretch/>
        </p:blipFill>
        <p:spPr>
          <a:xfrm>
            <a:off x="428760" y="5180040"/>
            <a:ext cx="335736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Picture 1" descr=""/>
          <p:cNvPicPr/>
          <p:nvPr/>
        </p:nvPicPr>
        <p:blipFill>
          <a:blip r:embed="rId1"/>
          <a:stretch/>
        </p:blipFill>
        <p:spPr>
          <a:xfrm>
            <a:off x="942840" y="928800"/>
            <a:ext cx="7258320" cy="57150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2" descr=""/>
          <p:cNvPicPr/>
          <p:nvPr/>
        </p:nvPicPr>
        <p:blipFill>
          <a:blip r:embed="rId2"/>
          <a:stretch/>
        </p:blipFill>
        <p:spPr>
          <a:xfrm>
            <a:off x="7429680" y="4643280"/>
            <a:ext cx="847440" cy="10861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" descr=""/>
          <p:cNvPicPr/>
          <p:nvPr/>
        </p:nvPicPr>
        <p:blipFill>
          <a:blip r:embed="rId3"/>
          <a:stretch/>
        </p:blipFill>
        <p:spPr>
          <a:xfrm>
            <a:off x="2000160" y="2714760"/>
            <a:ext cx="2071800" cy="3236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4"/>
          <a:stretch/>
        </p:blipFill>
        <p:spPr>
          <a:xfrm>
            <a:off x="1785960" y="3714840"/>
            <a:ext cx="3214800" cy="3236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" descr=""/>
          <p:cNvPicPr/>
          <p:nvPr/>
        </p:nvPicPr>
        <p:blipFill>
          <a:blip r:embed="rId5"/>
          <a:stretch/>
        </p:blipFill>
        <p:spPr>
          <a:xfrm>
            <a:off x="1928880" y="4125960"/>
            <a:ext cx="3857400" cy="3236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" descr=""/>
          <p:cNvPicPr/>
          <p:nvPr/>
        </p:nvPicPr>
        <p:blipFill>
          <a:blip r:embed="rId6"/>
          <a:stretch/>
        </p:blipFill>
        <p:spPr>
          <a:xfrm>
            <a:off x="2311560" y="5294160"/>
            <a:ext cx="242640" cy="2890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7"/>
          <a:stretch/>
        </p:blipFill>
        <p:spPr>
          <a:xfrm>
            <a:off x="5429160" y="5286240"/>
            <a:ext cx="285840" cy="2876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" descr=""/>
          <p:cNvPicPr/>
          <p:nvPr/>
        </p:nvPicPr>
        <p:blipFill>
          <a:blip r:embed="rId8"/>
          <a:stretch/>
        </p:blipFill>
        <p:spPr>
          <a:xfrm>
            <a:off x="2786040" y="58039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"/>
          <p:cNvPicPr/>
          <p:nvPr/>
        </p:nvPicPr>
        <p:blipFill>
          <a:blip r:embed="rId9"/>
          <a:stretch/>
        </p:blipFill>
        <p:spPr>
          <a:xfrm>
            <a:off x="3143160" y="5786280"/>
            <a:ext cx="1571760" cy="276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"/>
          <p:cNvPicPr/>
          <p:nvPr/>
        </p:nvPicPr>
        <p:blipFill>
          <a:blip r:embed="rId10"/>
          <a:stretch/>
        </p:blipFill>
        <p:spPr>
          <a:xfrm>
            <a:off x="5429160" y="581184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"/>
          <p:cNvPicPr/>
          <p:nvPr/>
        </p:nvPicPr>
        <p:blipFill>
          <a:blip r:embed="rId11"/>
          <a:stretch/>
        </p:blipFill>
        <p:spPr>
          <a:xfrm>
            <a:off x="6643800" y="5786280"/>
            <a:ext cx="1857240" cy="2764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" descr=""/>
          <p:cNvPicPr/>
          <p:nvPr/>
        </p:nvPicPr>
        <p:blipFill>
          <a:blip r:embed="rId12"/>
          <a:stretch/>
        </p:blipFill>
        <p:spPr>
          <a:xfrm>
            <a:off x="1778040" y="63118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"/>
          <p:cNvPicPr/>
          <p:nvPr/>
        </p:nvPicPr>
        <p:blipFill>
          <a:blip r:embed="rId13"/>
          <a:stretch/>
        </p:blipFill>
        <p:spPr>
          <a:xfrm>
            <a:off x="3000240" y="6286680"/>
            <a:ext cx="1571760" cy="2761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"/>
          <p:cNvPicPr/>
          <p:nvPr/>
        </p:nvPicPr>
        <p:blipFill>
          <a:blip r:embed="rId14"/>
          <a:stretch/>
        </p:blipFill>
        <p:spPr>
          <a:xfrm>
            <a:off x="5929200" y="628668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" descr=""/>
          <p:cNvPicPr/>
          <p:nvPr/>
        </p:nvPicPr>
        <p:blipFill>
          <a:blip r:embed="rId15"/>
          <a:stretch/>
        </p:blipFill>
        <p:spPr>
          <a:xfrm>
            <a:off x="6589800" y="6311880"/>
            <a:ext cx="30168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1" descr=""/>
          <p:cNvPicPr/>
          <p:nvPr/>
        </p:nvPicPr>
        <p:blipFill>
          <a:blip r:embed="rId1"/>
          <a:stretch/>
        </p:blipFill>
        <p:spPr>
          <a:xfrm>
            <a:off x="3848040" y="2095560"/>
            <a:ext cx="1447920" cy="41911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"/>
          <p:cNvPicPr/>
          <p:nvPr/>
        </p:nvPicPr>
        <p:blipFill>
          <a:blip r:embed="rId2"/>
          <a:stretch/>
        </p:blipFill>
        <p:spPr>
          <a:xfrm>
            <a:off x="4865760" y="2874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" descr=""/>
          <p:cNvPicPr/>
          <p:nvPr/>
        </p:nvPicPr>
        <p:blipFill>
          <a:blip r:embed="rId3"/>
          <a:stretch/>
        </p:blipFill>
        <p:spPr>
          <a:xfrm>
            <a:off x="4786200" y="3265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" descr=""/>
          <p:cNvPicPr/>
          <p:nvPr/>
        </p:nvPicPr>
        <p:blipFill>
          <a:blip r:embed="rId4"/>
          <a:stretch/>
        </p:blipFill>
        <p:spPr>
          <a:xfrm>
            <a:off x="4857840" y="36766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"/>
          <p:cNvPicPr/>
          <p:nvPr/>
        </p:nvPicPr>
        <p:blipFill>
          <a:blip r:embed="rId5"/>
          <a:stretch/>
        </p:blipFill>
        <p:spPr>
          <a:xfrm>
            <a:off x="4786200" y="41054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4" descr=""/>
          <p:cNvPicPr/>
          <p:nvPr/>
        </p:nvPicPr>
        <p:blipFill>
          <a:blip r:embed="rId6"/>
          <a:stretch/>
        </p:blipFill>
        <p:spPr>
          <a:xfrm>
            <a:off x="4786200" y="451656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4" descr=""/>
          <p:cNvPicPr/>
          <p:nvPr/>
        </p:nvPicPr>
        <p:blipFill>
          <a:blip r:embed="rId7"/>
          <a:stretch/>
        </p:blipFill>
        <p:spPr>
          <a:xfrm>
            <a:off x="4857840" y="4944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4" descr=""/>
          <p:cNvPicPr/>
          <p:nvPr/>
        </p:nvPicPr>
        <p:blipFill>
          <a:blip r:embed="rId8"/>
          <a:stretch/>
        </p:blipFill>
        <p:spPr>
          <a:xfrm>
            <a:off x="4786200" y="535464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"/>
          <p:cNvPicPr/>
          <p:nvPr/>
        </p:nvPicPr>
        <p:blipFill>
          <a:blip r:embed="rId9"/>
          <a:stretch/>
        </p:blipFill>
        <p:spPr>
          <a:xfrm>
            <a:off x="4879800" y="574848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22:4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